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C22-9CC9-453D-8924-696F0E44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118-064C-4E30-B602-AAF114B3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8C5-07D2-4FC8-8D47-10D0C229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69D-009E-40B7-9CC5-D1A44B26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81F-5CF0-44D1-8925-F9060C9A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8DB-52F8-477D-BDFD-591DE17F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185-8053-416D-8620-5BFF4A92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03B-FA8E-422F-B7FF-E28DDFD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676-2081-4F52-A1C7-BCD4F99B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D6D-3B97-4E88-858D-B7EA312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5BE-7515-4F2A-B42B-99CD802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212-4E7E-4418-8A81-7950190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620-6C9A-4EE7-B86D-234A6506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 fecha es el 5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8: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un dipton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asar la hoja de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area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¿Qué es un dipton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0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diptongo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es la union de dos vocales en una 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laba. Es una combinación de una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(sin acento) o una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(sin acento) con cualquier otra vocal.  No importa si la otra vocal tiene acento escrito 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(d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ie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-ci-s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éi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s, des-p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ué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s)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 la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son vocales débiles; las otras son fue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phtho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s the union of 2 vowels in one syllable. It is a combination of a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[without an accent] or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[without an accent] with any other vowel. It doesn’t matter if the other vowel has a written accent or not.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re weak vowels; the others are strong vowel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mplos de dipton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ri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ini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e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id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990720" cy="8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1218960" cy="89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09680" y="4038480"/>
            <a:ext cx="1676520" cy="112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66880" y="5562720"/>
            <a:ext cx="905040" cy="90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3280" y="135576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Di – a - 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3280" y="272736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Pei – ni - 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3640" y="432756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ue - 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70680" y="5699160"/>
            <a:ext cx="28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ui - da -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447920"/>
            <a:ext cx="457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43200"/>
            <a:ext cx="457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3434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5715000"/>
            <a:ext cx="457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PTON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(a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(e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 (o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 (u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ando un diptongo termina con el sonido de la “i” se convierte en “y” (s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r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l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a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mu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When a diphthong ends with the sound of the “i” it turns into a “y”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l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  n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P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un poema m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514600"/>
            <a:ext cx="41148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 llaman el Dipton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s vocales so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cal débil, siempre lle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una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a d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514600"/>
            <a:ext cx="4724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y call me the Diphth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wo vowels am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weak vowel, I always h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a syllable I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cada palabra en silabas. Pronuncia cada palab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oz alta. Recuerda que los diptongos no se sepa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ano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 Estat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est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 Fi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i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  Bai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ud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 Gavio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 Guajol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iern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. 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06520" y="1981080"/>
            <a:ext cx="97020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57360" y="4191120"/>
            <a:ext cx="1047960" cy="74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400480" y="4952880"/>
            <a:ext cx="1104840" cy="64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761760" cy="65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438280" y="5791320"/>
            <a:ext cx="8971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133720" y="2971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858000" y="1714680"/>
            <a:ext cx="547560" cy="118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648480" y="2900520"/>
            <a:ext cx="1123920" cy="90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553080" y="36576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7162920" y="44956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7772400" y="4952880"/>
            <a:ext cx="89532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6553080" y="5715000"/>
            <a:ext cx="1152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area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El dipto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4:22Z</dcterms:created>
  <dc:creator>Helen Zumaeta</dc:creator>
  <dc:description/>
  <dc:language>en-US</dc:language>
  <cp:lastModifiedBy>Helen Zumaeta</cp:lastModifiedBy>
  <dcterms:modified xsi:type="dcterms:W3CDTF">2011-10-04T21:23:58Z</dcterms:modified>
  <cp:revision>18</cp:revision>
  <dc:subject/>
  <dc:title>Me llamo _________ Clase 6 IM La fecha es el 4 de diciembre del 2009</dc:title>
</cp:coreProperties>
</file>